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1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EE41-1883-48CC-AFB0-132B599F9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4426-87F3-45B1-A543-8F006B8944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11A9-BC14-4888-9A95-6D057AE771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64C6-0C3B-4465-9569-E0623151CE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D34E-7E40-463F-8E51-6EC8285E5C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1FFA-DB0E-4766-A281-B788090553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EFE9-ECD1-4977-A781-000BD510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4F02-F555-4038-A503-C8DAD654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8B6-A801-43DF-BB59-6ABBB99E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11C6-52FD-4167-87C6-83E2B79F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AC1B-2521-4DAC-8A28-CE634430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FD97-871E-483D-BD32-CA25C32C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B63C-4FFF-45F4-9D3F-CAD4535D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BB1D-6B63-41D0-AA15-E5722861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F0FD-33CF-4E21-84C8-18F382CB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E8C2-D852-4190-AD28-C28CA946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E11F-D901-45D1-8EB5-B1A2C1BA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7106-7E26-464E-8F0C-00278FC7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B750-178C-4E59-9802-CFA42AAE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EEB9-9B84-4706-9941-89955B23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93EF-37F3-4824-AB98-096572E6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F0DE-B9FB-4BD3-BB11-236BC064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457D-28BF-4AD8-B181-40D2F877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70F7-E1F0-483B-9DD7-839CFC6A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DA4-557E-4634-88F9-62D5C947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C3E-D5D5-4519-B08C-66DB8A9C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06E9-C18B-4D1F-8A88-8FF53684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A2A-5E63-495A-BAD9-6CAECF6B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4761-2B1C-4329-A14D-2A253A30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6E2E-2B8B-4D15-A3B0-35EB5456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29F1-B14B-4B78-BF0D-60B1241C0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F1A7-4790-4947-A6FA-C988508B7F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JUST THE FACTS VIDEO ONQ #1 -CONGRES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s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at is the title of the MAJORITY leader of the House of Representativ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2629080" y="27432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What is the title of the MAJORITY leader of the SENA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2933640" y="3056040"/>
            <a:ext cx="3276720" cy="3276360"/>
          </a:xfrm>
          <a:prstGeom prst="rect">
            <a:avLst/>
          </a:prstGeom>
          <a:ln w="0">
            <a:noFill/>
          </a:ln>
        </p:spPr>
      </p:pic>
    </p:spTree>
  </p:cSld>
  <p:transition spd="med" advTm="6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What THREE Presidents have faced impeachm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3"/>
          <a:stretch/>
        </p:blipFill>
        <p:spPr>
          <a:xfrm>
            <a:off x="380880" y="2362320"/>
            <a:ext cx="3276720" cy="3379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4"/>
          <a:stretch/>
        </p:blipFill>
        <p:spPr>
          <a:xfrm>
            <a:off x="4495680" y="2362320"/>
            <a:ext cx="2895840" cy="3382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5"/>
          <a:stretch/>
        </p:blipFill>
        <p:spPr>
          <a:xfrm>
            <a:off x="3048120" y="4495680"/>
            <a:ext cx="1933560" cy="236232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830160"/>
            <a:ext cx="8076960" cy="21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at lies at the heart of the authority of Congres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1066680" y="4148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tretch/>
        </p:blipFill>
        <p:spPr>
          <a:xfrm>
            <a:off x="5181480" y="3733920"/>
            <a:ext cx="3124440" cy="26748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490680"/>
            <a:ext cx="91440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en is Election Da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838080" y="2057400"/>
            <a:ext cx="7048800" cy="3753000"/>
          </a:xfrm>
          <a:prstGeom prst="rect">
            <a:avLst/>
          </a:prstGeom>
          <a:ln w="0">
            <a:noFill/>
          </a:ln>
        </p:spPr>
      </p:pic>
    </p:spTree>
  </p:cSld>
  <p:transition spd="slow" advTm="60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2-16T20:03:06Z</dcterms:modified>
  <cp:revision>138</cp:revision>
  <dc:subject/>
  <dc:title>D/O: TO EXPLAIN AND IDENTIFY PROBLEMS OF ECONOMICS</dc:title>
</cp:coreProperties>
</file>